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AC5-F850-4263-9E37-EA18C2C6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3F1-D478-4A79-9B8E-EB0CE447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73B-5100-4D04-BA0D-E7F05567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6F6-2B20-4864-920E-3203C2ED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8618-68C1-42CC-8BB5-5AE5F5D1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FAE0-FE7F-48D1-9622-E61E7491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611A-E875-4702-8FE4-A5065ACB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C3DB-4444-42D1-9862-E1DA15F5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F38E-F502-4B6E-8B71-CBFD4767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9029-FCB5-47F1-8861-898BDDA0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DACD-4FBA-491B-9D9E-63D60707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C10-EAA7-44F2-A507-DA8C263A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F816-D72F-4AEF-B139-877BCC1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4FE9-964D-4670-8AD1-FD6BFE57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2B5C-7A6F-4A21-9007-E8C90622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2270-032E-4BCF-98BC-9A19F603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324E-9A0C-4D99-9402-6AF77C4C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AF9E-27DA-4D4A-B8E7-A782E044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4AAE-0F67-4F9F-A5FC-957987A9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B88E-89C0-4FD2-B9BB-C5074EF6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A126F-35A8-4175-8D71-2EF65BA5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CEA0-9639-4B93-8CF6-2308CACE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092-65C0-4B88-822B-8D6A0108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3D05-DAE7-4720-A62B-FAC70269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4F37-0BCE-4E6F-9939-DC25083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3F2F-F9DC-4857-AC45-C41FEF6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282E-D4C4-4CA0-9F66-9134E9B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1C79E-119A-45F5-A89C-4A175CBD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364F-BE25-46B5-87EF-ADE9198C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1037-41A4-431F-A869-702DB587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4D1B-BCD3-4BC5-BB8E-39B0C9A0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74E78-0357-44B6-969A-32D3772D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F50C-8A24-4047-A751-62B2DE14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B15-8A50-498A-AE97-E6BC9A4A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67F7-2037-42C1-9B62-CFBECF00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317B-F3DB-4D73-BF61-2FEB5059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6AEA-C9EC-40C1-80CC-4CC7386E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5945-2B71-4DB5-946C-020AC31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DAD7-DEC1-4662-B4B5-6BFD492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4A40-9B9A-4025-9AB4-A4E2829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C812-9A64-41BB-8DE5-C08B9B9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1178-B8BC-4089-8408-A6F8FA87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7DF3A-435C-4905-B793-089F8BB8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AB6-8A76-4AA6-8926-94FCC4AD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6DF-B57B-49D8-A0EC-C36067E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310-DB98-470B-9BD3-65FB1324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D16-CBB8-4966-81BE-5E169842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DD2-4560-4DB3-98CA-BADAD39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9485-0D99-4EA4-AAA8-525F413B42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94ED-49E9-4F30-AC91-E3CE9027875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7DE6-2599-4842-9548-74A3675CD96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A2CB-CABE-49FD-8A3F-610EF189E1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e/RheumatoideArthritisAP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upload.wikimedia.org/wikipedia/commons/3/3a/Arthrite_rhumatoide.jpg" TargetMode="External"/><Relationship Id="rId4" Type="http://schemas.openxmlformats.org/officeDocument/2006/relationships/image" Target="../media/image10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060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858000" cy="2667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 болесника са реуматоидним артритисом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Показатељи лоше прогнозе Р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Рани почетак боле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Велики број захваћених зглобо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Теже функционално оштећењ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Генетски показатељ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Ране радиолошке проме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RF 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и-или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 CCP At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(циклични цитрулисани пептид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193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685800" y="175248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и симпт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четном стадијуму често долази само до општих поремећаја: нелагодности, умора, губитка сна и апетита, незнатно повишене ТТ,  опште слабо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 симпто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оремећаји који се јављају на зглобовима су јутарња укоченост, бол и отоци зглобова. Захватају више симетричних зглобова, нарочито 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Arial"/>
              </a:rPr>
              <a:t>Знаци и симптоми на зглобовим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Бол у миру, оток, палпаторна болна осетљив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Бол при покретима у развијеној фор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Јутарња укоченост дужа од 1 са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ток зб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њ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количине синовијалне течности, хипертрофије синовије и задебља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њ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 капсул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граничена покретљивост због бола (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FL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да би повећао зглобни волумен и смањио истеза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њ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е капсуле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аспоред: ручни, шаке, стопала; рамена, лактови, колена; куков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еформације: улнарна девијација шаке, лабудов врат, рупица за дугме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палац, уз атрофије мишић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66_artikle2"/>
          <p:cNvPicPr/>
          <p:nvPr/>
        </p:nvPicPr>
        <p:blipFill>
          <a:blip r:embed="rId1"/>
          <a:stretch/>
        </p:blipFill>
        <p:spPr>
          <a:xfrm>
            <a:off x="281160" y="907920"/>
            <a:ext cx="3479760" cy="4608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380880" y="0"/>
            <a:ext cx="47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У </a:t>
            </a:r>
            <a:r>
              <a:rPr b="1" lang="sr-CS" sz="3200" spc="-1" strike="noStrike">
                <a:solidFill>
                  <a:srgbClr val="000000"/>
                </a:solidFill>
                <a:latin typeface="Constantia"/>
              </a:rPr>
              <a:t>одмаклом стадијуму</a:t>
            </a: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3886200" y="1219320"/>
            <a:ext cx="487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астаје растезање и истезање зглобне капсу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азарања хрскавице и субхондралне кости, 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роцес захвата и разара и лигаменте, тетиве и капсу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304920" y="3505320"/>
            <a:ext cx="9601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рена ткива замењују се гранулаци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аје фиброзирање гранулационог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лобни простори се премошћују, прво чврстим везивним ткивом, ко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калцифик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потпуно ишчезавање зглобне шупљ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прво фиброзна, а затим коштана анкил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-334800" y="-103320"/>
            <a:ext cx="9783720" cy="11638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уматоидни с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тани чворови (20-30%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кож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мускулатури (слабост, атрофиј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крвним судовима (нокатна плоч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перферним нервима (компр неуропатиј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срцу (перикардитис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плућима (обољења плеуре, изливи..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очима (2%, склеритис и епискклеритис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лимфног апара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гласним жица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еопороз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, малигните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bf5f9"/>
                </a:solidFill>
                <a:latin typeface="Calibri"/>
              </a:rPr>
              <a:t>Дијагностички критеријуми РА америчког удружења реуматолога из 1987.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тарња укоченост у-око зглоба од најмање 1 с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 3 или више зглоба(може 14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тање бар 1 подручја руку (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C,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P,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чни артритис           </a:t>
            </a:r>
            <a:r>
              <a:rPr b="0" lang="sr-C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6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дељ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уматоидни чворићи (на местима притиска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ан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F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 серум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олошке промене (остеопороза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P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ужен зглобни простор, узуре или ерозије уз руб кости,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еформација палца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dbf5f9"/>
                </a:solidFill>
                <a:latin typeface="Calibri"/>
              </a:rPr>
              <a:t>Значај ране дијагностике 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Нема дијагностичког теста који потврђује 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Ток болести је непредвидив, углавном прогресива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Време трајања је важније од интезитета запаљењ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Дијагностика више зависи од вештине узиманја анамнезе и прегледа, него од специфичних метод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Рана примена лекова који модификују болест доводи до боље контроле болести и смањења оштећења зглобова (,,прозор терапијских могућн,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991720" cy="1743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и преглед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ндгенски снимц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ски тестови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е  које указују на присуство запаљенског процеса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, CRP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KS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атинин, хепатограм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е  које указују на имунолошка и друга збивања 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CP At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трасонографиј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МР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post-205-1222959470_thumb[1]"/>
          <p:cNvPicPr/>
          <p:nvPr/>
        </p:nvPicPr>
        <p:blipFill>
          <a:blip r:embed="rId1"/>
          <a:stretch/>
        </p:blipFill>
        <p:spPr>
          <a:xfrm>
            <a:off x="334800" y="695160"/>
            <a:ext cx="3687840" cy="3267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234950"/>
          <p:cNvPicPr/>
          <p:nvPr/>
        </p:nvPicPr>
        <p:blipFill>
          <a:blip r:embed="rId2"/>
          <a:stretch/>
        </p:blipFill>
        <p:spPr>
          <a:xfrm>
            <a:off x="262080" y="3822840"/>
            <a:ext cx="3608280" cy="3151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post-205-1222959510_thumb[1]"/>
          <p:cNvPicPr/>
          <p:nvPr/>
        </p:nvPicPr>
        <p:blipFill>
          <a:blip r:embed="rId3"/>
          <a:stretch/>
        </p:blipFill>
        <p:spPr>
          <a:xfrm>
            <a:off x="5211720" y="774720"/>
            <a:ext cx="3157560" cy="29750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Рендгенске промене служе за оцену прогресије 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post-205-1222959584_thumb[1]"/>
          <p:cNvPicPr/>
          <p:nvPr/>
        </p:nvPicPr>
        <p:blipFill>
          <a:blip r:embed="rId4"/>
          <a:stretch/>
        </p:blipFill>
        <p:spPr>
          <a:xfrm>
            <a:off x="5138640" y="3670200"/>
            <a:ext cx="323064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446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Едукациј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Медикаментно лечењ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аналгетиц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нестероидни антиинфламаторни леков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лекови који мењају ток болести (биолошки и небиолош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кортикостероид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Физикално лечење и рехабилитациј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Хируршко лечење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990720" y="7621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Constantia"/>
              </a:rPr>
              <a:t>Реуматоидни артрит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8rheu_arthritis"/>
          <p:cNvPicPr/>
          <p:nvPr/>
        </p:nvPicPr>
        <p:blipFill>
          <a:blip r:embed="rId1"/>
          <a:stretch/>
        </p:blipFill>
        <p:spPr>
          <a:xfrm>
            <a:off x="182520" y="2298600"/>
            <a:ext cx="3309840" cy="2925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4"/>
          <p:cNvSpPr/>
          <p:nvPr/>
        </p:nvSpPr>
        <p:spPr>
          <a:xfrm>
            <a:off x="3429000" y="1600200"/>
            <a:ext cx="5715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о обољење везивног ткива недовољно познатог узрока, запаљењске природе, хроничног, проградијентног тока, која се најизразитије испољава на периферним зглобов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карактеристика је полиартикуларни  симетрични синовитис, који води оштећењу зглоба и губитку функције, уз захватање других система и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dbf5f9"/>
                </a:solidFill>
                <a:latin typeface="Calibri"/>
              </a:rPr>
              <a:t>Медикаментна терапија 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COX 2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селективни 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NSA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најкраће време најмања ефикасна доза уз заштиту желуца инхибиторима протонске пумп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- диспепсија, ерозије, улцерације, крварења из ДС, оштеће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е срца, кс, бубрега, јетре, кожне манифестац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аналгетици: Парацетамол до 3 грама дневн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Кортикостероиди у терапији Р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Успешни у смиривању упал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Оправдани код недовољне ефикасности </a:t>
            </a:r>
            <a:r>
              <a:rPr b="0" lang="sr-Latn-CS" sz="2800" spc="-1" strike="noStrike">
                <a:solidFill>
                  <a:srgbClr val="ffffff"/>
                </a:solidFill>
                <a:latin typeface="Constantia"/>
              </a:rPr>
              <a:t>NSAIL</a:t>
            </a: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 или великог ризика од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ихове употребе на почетку леч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а до постиз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а пуног дејства </a:t>
            </a:r>
            <a:r>
              <a:rPr b="0" lang="sr-Latn-CS" sz="2800" spc="-1" strike="noStrike">
                <a:solidFill>
                  <a:srgbClr val="ffffff"/>
                </a:solidFill>
                <a:latin typeface="Constantia"/>
              </a:rPr>
              <a:t>LMTB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Укидају се постепен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Опасност од НТА, катаракте, дијабета, вирусних и бактеријских инфекција, крваренја у ДС, остеонекрозе, хирзутизма и остеопороз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Нежељена дејства су већа што је доза већ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dbf5f9"/>
                </a:solidFill>
                <a:latin typeface="Calibri"/>
              </a:rPr>
              <a:t>Небиолошки </a:t>
            </a:r>
            <a:r>
              <a:rPr b="0" lang="sr-Latn-CS" sz="5000" spc="-1" strike="noStrike">
                <a:solidFill>
                  <a:srgbClr val="dbf5f9"/>
                </a:solidFill>
                <a:latin typeface="Calibri"/>
              </a:rPr>
              <a:t>LMTB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о испољавају после 2-3 месец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тити ККС, функције јетре и бубрега.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n College of Rheumatology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је 2008 на основ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ease Activity Score (DAS)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ло препоруке за сваку од подгрупа: ниске (до 3,2) умерене ( до 5,1) и високе активности (преко 5,1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 избора је Метотрексат 25 мг/недељн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фуномид, Хидроксихлороквин, Миноциклин, Азатиоприн, соли злата, Циклофосфамид..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Задаци физикалне терапије Р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смањи бо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одржи или повећа покретлјивос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очува мишићну снагу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спречи деформациј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обучи правилној употреби зглобова, без оптерећењ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омогући нормалне дневне активност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onstantia"/>
              </a:rPr>
              <a:t>Физикална терапија Р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акутној фази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терапија, ЕС, позиционирањ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роничној фази се користе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терапијске процедур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рапиј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тразвучна терапиј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терапијске процедур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серотерапиј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Constantia"/>
              </a:rPr>
              <a:t>Кинезитерапија РА у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ој фа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рећење зглобов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 деформација зглобова позиционирањем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ч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изометријс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контракци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роничној фа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сиван покрет , активно-потпомогнут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а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скраћених структу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менти ПНФ технике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ксациј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кинезитерапиј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me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atkins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sr-CS" sz="4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Физикална терапија РА</a:t>
            </a: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сихолошка потпор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дукација болесника и породиц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шавање социјалних проблема болесник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имена средстава за самозбрињавањ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Arial"/>
              </a:rPr>
              <a:t>Тестира</a:t>
            </a:r>
            <a:r>
              <a:rPr b="0" lang="sr-CS" sz="4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4600" spc="-1" strike="noStrike">
                <a:solidFill>
                  <a:srgbClr val="dbf5f9"/>
                </a:solidFill>
                <a:latin typeface="Arial"/>
              </a:rPr>
              <a:t>е болесника са Р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inbrocker (ARA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Q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упитник процене здравственог станја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 Generated Index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Repercusion Profil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 Master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питиник ѕа артрити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FT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сложени функцијски тест) Бранковић 1994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450720" y="2584440"/>
            <a:ext cx="82425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Датотека:RheumatoideArthritis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2394000"/>
            <a:ext cx="2492640" cy="4130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Датотека:Arthrite rhumatoi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076640"/>
            <a:ext cx="5545080" cy="24465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Arthrit</a:t>
            </a:r>
            <a:r>
              <a:rPr b="1" lang="sr-Latn-CS" sz="3200" spc="-1" strike="noStrike">
                <a:solidFill>
                  <a:srgbClr val="04617b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rh</a:t>
            </a:r>
            <a:r>
              <a:rPr b="1" lang="sr-Latn-CS" sz="32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umatoide</a:t>
            </a:r>
            <a:r>
              <a:rPr b="1" lang="sr-Latn-CS" sz="3200" spc="-1" strike="noStrike">
                <a:solidFill>
                  <a:srgbClr val="04617b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3" name="Object 13"/>
          <p:cNvGraphicFramePr/>
          <p:nvPr/>
        </p:nvGraphicFramePr>
        <p:xfrm>
          <a:off x="395280" y="260280"/>
          <a:ext cx="5545080" cy="358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260280"/>
                    <a:ext cx="5545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E</a:t>
            </a:r>
            <a:r>
              <a:rPr b="0" lang="sr-CS" sz="5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пидемиологија 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 1% становништва болује од 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 обољевају 3 пута чешћ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 се јавља у петој децениј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АД 250000 хоспитализација и 9 милиона посета лекару годишњ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ечени постају трајно неспососбни за рад након 3 годи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Зап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ењске реуматске болести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Примарна зглобна об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енј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Реуматска грозниц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Ј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пондилоартропатиј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истемске болести везивног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Р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Л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јогрен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истемска склероз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истемски васкулитис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4204800"/>
            <a:ext cx="40384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Метаболичке артропатиј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Гих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Псеудогих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Охроноз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Артропатија у хемосидероз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Артропатија у охроноз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4204800"/>
            <a:ext cx="40384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Инфекцијски артритис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Бактеријск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Вирусн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Г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ивичн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паразитн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Заједничке карактеристике системских болести везив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Генетска предиспозиц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Мултисистемски каракте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Општи несп</a:t>
            </a:r>
            <a:r>
              <a:rPr b="0" lang="sr-Latn-CS" sz="2200" spc="-1" strike="noStrike">
                <a:solidFill>
                  <a:srgbClr val="ffffff"/>
                </a:solidFill>
                <a:latin typeface="Constantia"/>
              </a:rPr>
              <a:t>e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цифични симпто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Склоност прогресији, спонтаној ремисији и егзарцер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Чешће код жена и стари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Лимфаденопатија, спленомегал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Преклапање клиничких и серолошких обележ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Позитивни неспецифични знаци упал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Аутоантител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Карактеристичан патохистолошки налаз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Пов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ан ефекат антизап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ењске и имуносупресивне те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686800" cy="1219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 и није  довољно поз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ски, хормонски и   имунолошки 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атолошки процес је реуматоидно запаљ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уси спољашње средине (инфекције, пушење...) покрећу серију ћелијских и молекулских догађања које вероватно потичу 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D 4+ T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dbf5f9"/>
                </a:solidFill>
                <a:latin typeface="Arial"/>
              </a:rPr>
              <a:t>Патогенеза 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ктивиран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D 4+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 ћелије стимулишу В ћелије на продукцију реуматоидног факто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з макрофаге, Т и В лимфоците, активирани синовијски фибробласти играју улогу у иницијацији и одржању 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ипично екстраваскуларно обољење аутоимуних комплекса. Важну улогу у патогенези игра стварање имуних комплекса између реуматоидних фактора и измењених  имуноглобули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0" y="-378000"/>
            <a:ext cx="9156600" cy="22989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Код већине болесника болест почиње постепено. Код 50% болесника локализација зглобних промена на почетку је типична, симетрична на проксималним 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IF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MCP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зглобовим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Понекад процес мож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да почне нагло, са акутним запаљењем већег броја зглобова, а понекад постоје изражени општи симптоми акутне инфламациј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Ређе болест може од самог почетка и током целог свог трајања да има врло благ облик, без већих деструктивних промена на злобовим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8:03:09Z</dcterms:created>
  <dc:creator>Madgunny</dc:creator>
  <dc:description/>
  <dc:language>en-US</dc:language>
  <cp:lastModifiedBy>Bill Gates</cp:lastModifiedBy>
  <dcterms:modified xsi:type="dcterms:W3CDTF">2013-04-02T07:37:55Z</dcterms:modified>
  <cp:revision>33</cp:revision>
  <dc:subject/>
  <dc:title>МЕДИЦИНСКИ ФАКУЛТЕТ КРАГУЈЕВАЦ</dc:title>
</cp:coreProperties>
</file>